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C107-3F04-4314-8E98-E912ADEA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ACC7-3920-4A4F-9D25-BCF36F00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F00E-F4C3-4C2F-88EE-43C09A39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412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10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17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412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10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1CC4B-DED8-4EB5-8BB2-D4864FCD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CCDF-DB6F-45E6-9EE4-527C92DF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21E4-6DF9-4789-82E2-A4D092B8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278B-4069-46E3-9A27-91CF97A1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AC9B-7259-4CFB-A038-2A3E81B0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60C0-A06B-4BB9-B798-2B40019D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C698-6B36-4D6B-A801-F845DD2E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EFCF-2EFD-4E11-BE02-06243188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957E-AE23-4AF2-BCF4-3F14B5F4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D540-70D6-4FB4-A28F-42AD7E69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EAB5-4FC5-4C72-AEEE-BDDACC89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84B4-41D8-419D-AE2C-FDACA2A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CC2B-5CA7-4FC9-9E33-2FE85003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412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10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7617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412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10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ED94-9314-400F-9BA3-B231D33D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4715-EC3D-4962-B2F0-9FCBE3AE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5721F-D3DE-491D-BBD6-EA47AF6D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313A-4555-4FDF-AF11-3366D0AD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96A3-714F-43E2-A159-6CC6D2D6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E128-E455-4751-83B2-37C6544C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2D149-BD80-4E2C-AAF3-F30BD811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222D-B16E-4F7B-9C4C-A78A6E62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CC6D-7E83-46DE-8DE0-71448BBBC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04920" y="304920"/>
            <a:ext cx="8229240" cy="456840"/>
            <a:chOff x="304920" y="304920"/>
            <a:chExt cx="8229240" cy="456840"/>
          </a:xfrm>
        </p:grpSpPr>
        <p:sp>
          <p:nvSpPr>
            <p:cNvPr id="3" name=""/>
            <p:cNvSpPr/>
            <p:nvPr/>
          </p:nvSpPr>
          <p:spPr>
            <a:xfrm>
              <a:off x="304920" y="304920"/>
              <a:ext cx="257040" cy="446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76440" y="417600"/>
              <a:ext cx="7857720" cy="22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3560" y="417600"/>
              <a:ext cx="123840" cy="1180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97400" y="304920"/>
              <a:ext cx="125640" cy="115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97400" y="417600"/>
              <a:ext cx="125640" cy="118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1880" y="534600"/>
              <a:ext cx="122760" cy="115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23360" y="419040"/>
              <a:ext cx="126720" cy="115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3560" y="532080"/>
              <a:ext cx="123840" cy="11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51880" y="647640"/>
              <a:ext cx="122760" cy="114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80880" y="380880"/>
            <a:ext cx="8381880" cy="6172200"/>
            <a:chOff x="380880" y="380880"/>
            <a:chExt cx="8381880" cy="6172200"/>
          </a:xfrm>
        </p:grpSpPr>
        <p:sp>
          <p:nvSpPr>
            <p:cNvPr id="52" name=""/>
            <p:cNvSpPr/>
            <p:nvPr/>
          </p:nvSpPr>
          <p:spPr>
            <a:xfrm>
              <a:off x="380880" y="380880"/>
              <a:ext cx="3213000" cy="617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3720" y="1902240"/>
              <a:ext cx="6809040" cy="2280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80880" y="1340640"/>
              <a:ext cx="2627640" cy="2841120"/>
              <a:chOff x="380880" y="1340640"/>
              <a:chExt cx="2627640" cy="2841120"/>
            </a:xfrm>
          </p:grpSpPr>
          <p:sp>
            <p:nvSpPr>
              <p:cNvPr id="55" name=""/>
              <p:cNvSpPr/>
              <p:nvPr/>
            </p:nvSpPr>
            <p:spPr>
              <a:xfrm>
                <a:off x="906120" y="3605040"/>
                <a:ext cx="528120" cy="576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53720" y="1901880"/>
                <a:ext cx="526320" cy="578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1760" y="1340640"/>
                <a:ext cx="536760" cy="571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27040" y="3605040"/>
                <a:ext cx="534960" cy="576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71760" y="1901880"/>
                <a:ext cx="536760" cy="578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27040" y="2472120"/>
                <a:ext cx="534960" cy="569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2472120"/>
                <a:ext cx="533880" cy="569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53720" y="2472120"/>
                <a:ext cx="526320" cy="569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06120" y="3033360"/>
                <a:ext cx="528120" cy="579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27040" y="3033360"/>
                <a:ext cx="534960" cy="5796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F4F2-B20A-4BBB-B233-F75040244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l-Time Logic – a brief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601120" y="6172200"/>
            <a:ext cx="5428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1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33920" y="1980720"/>
            <a:ext cx="4952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, redundant control for nuclear reactor (two control ro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ystem starts moving the rod within 5 time units from manager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completed in 20 time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eedback on the manager; it must wait at least 30 time units before granting another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44720" cy="487512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6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2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ystem 1 (subsystem 2 is equivalen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6553080" cy="1168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467480" cy="99540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72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762120" y="2362320"/>
            <a:ext cx="14475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on1 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26668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2362320"/>
            <a:ext cx="19047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request to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10080" y="26668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429000"/>
            <a:ext cx="19047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 by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0960" y="36576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3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086600" cy="235440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84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: safety proper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use the specification to check if interesting properties h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he two rods must not be moving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perty can be proved true with a 25-nodes inference t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562720" cy="101448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9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theoretical resul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proven that general RTL is undecidable (reduction to a two counter machi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able subset exists: conjunctions of formulas                                    , where       is a quantifier (           ) and      is of form: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, a decision algorithm is provided for specification expressed in Mode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9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248520" y="2590920"/>
                <a:ext cx="21034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…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5120" y="2895480"/>
                <a:ext cx="249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886200" y="289548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010120" y="2865600"/>
                <a:ext cx="290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95280" y="3276720"/>
                <a:ext cx="291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dechar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581280" y="19807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since ‘88 as a practical specification tool built on top of RT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s hierarchical statecharts with timing constra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the classic railroad-crossing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 constraint: (r,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: transition delay (minimum time before tran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 transition deadline (max time to tran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trivially converted in a RTL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ty requir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056040" cy="502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886200" y="4876920"/>
                <a:ext cx="43959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DOW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CROSSING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0" y="5257800"/>
                <a:ext cx="39369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CROSSING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DOW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08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del checking on Modechar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-state model checking is possible on Modechart-generated RTL spec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finit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putation grap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the Modechart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properties expressed in decidable RTL by model checking the computation graph (several subclasses of RTL support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building the comp. graph as a simple state reachability graph is not enough – a state may be unreachable due to timing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annotate each node in the comp. graph with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set of timing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odes in the graph are isomorphic iff they share the same state, event set and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tance equival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dition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ways possible to obtain a finite comp.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13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: comp. graph for railroa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86400" cy="477972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18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remarks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checking Modecharts is computationally expensive in both time &amp;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subgraph of timing constraints to derive information for each node in the comp. gra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stance equivalence is not satisfied we can get a state explo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ymbolic modelchec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when considering a reduced decidable subset RTL is fairly powerful,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erform efficient model checking we need to add further restriction. Ex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roperties are not amenable to be expressed in RTL. Ex: sums of execution ti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600200" y="4648320"/>
            <a:ext cx="4038480" cy="53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3880" y="5791320"/>
                <a:ext cx="4989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j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2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remarks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nclusion in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itoring Oriented Programm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 need to be associated with absolute tim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a reasonable RTL subset decidable for finite tra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an efficient monitor (forward reasoning) seems har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logic really what we want for (run-time) verification of real-time programs? 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3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order logic especially designed for the specification of real-time systems; originally proposed in [Jahanian &amp; Mok, 86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s represented explici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 atoms are not state predicate b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 state transi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     has (possibly infinite)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curre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ming information is expressed by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currence re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: the ith occurrence of     happens at time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 simple real-time period task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TL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90640" y="398628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162840" y="3917880"/>
                <a:ext cx="957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69120" y="4214880"/>
                <a:ext cx="854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97400" y="4511520"/>
                <a:ext cx="18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200560" y="4518000"/>
                <a:ext cx="1447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0880" y="5638680"/>
                <a:ext cx="54374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INISH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1520" y="5181480"/>
                <a:ext cx="5688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6086160" y="4952880"/>
            <a:ext cx="2819880" cy="533520"/>
            <a:chOff x="6086160" y="4952880"/>
            <a:chExt cx="2819880" cy="533520"/>
          </a:xfrm>
        </p:grpSpPr>
        <p:sp>
          <p:nvSpPr>
            <p:cNvPr id="118" name=""/>
            <p:cNvSpPr/>
            <p:nvPr/>
          </p:nvSpPr>
          <p:spPr>
            <a:xfrm>
              <a:off x="6772320" y="4952880"/>
              <a:ext cx="213372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IOD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6160" y="5257800"/>
              <a:ext cx="685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857920" y="5715000"/>
            <a:ext cx="3048120" cy="533520"/>
            <a:chOff x="5857920" y="5715000"/>
            <a:chExt cx="3048120" cy="533520"/>
          </a:xfrm>
        </p:grpSpPr>
        <p:sp>
          <p:nvSpPr>
            <p:cNvPr id="121" name=""/>
            <p:cNvSpPr/>
            <p:nvPr/>
          </p:nvSpPr>
          <p:spPr>
            <a:xfrm>
              <a:off x="6772320" y="5715000"/>
              <a:ext cx="2133720" cy="53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AD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5857920" y="586728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3048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7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9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2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3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5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8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9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1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001000" y="3200400"/>
                <a:ext cx="1443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53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yntax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 of numeric consta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 of events symb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of time var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of occurrences var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           as syntactic sug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             as s.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55920" y="228600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,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17880" y="2606760"/>
                <a:ext cx="2505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255920" y="2590920"/>
                <a:ext cx="1568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,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098800" y="2919240"/>
                <a:ext cx="25056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65320" y="3537000"/>
                <a:ext cx="271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057400" y="384192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00200" y="449568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800600"/>
                <a:ext cx="23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576440" y="5065560"/>
                <a:ext cx="4395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25520" y="5052960"/>
                <a:ext cx="6699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590840" y="5338800"/>
                <a:ext cx="7315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389320" y="5342040"/>
                <a:ext cx="7747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→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7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yntax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rsive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renc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rsive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     an event constant,      an occurrence term,     a time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                       to time te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                       to occurrence te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first-order logic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55920" y="472428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,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23880" y="5029200"/>
                <a:ext cx="854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336840" y="2341440"/>
                <a:ext cx="250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352680" y="3537000"/>
                <a:ext cx="250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62440" y="2590920"/>
                <a:ext cx="271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565440" y="3833640"/>
                <a:ext cx="25092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841920" y="2948040"/>
                <a:ext cx="23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9880" y="4159080"/>
                <a:ext cx="2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968560" y="510552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025960" y="5052960"/>
                <a:ext cx="1461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128000" y="5064120"/>
                <a:ext cx="1458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895480" y="5334120"/>
                <a:ext cx="1131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95480" y="5638680"/>
                <a:ext cx="1131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149800" y="5907240"/>
                <a:ext cx="14842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∨</m:t>
                    </m:r>
                    <m:r>
                      <m:t xml:space="preserve">,</m:t>
                    </m:r>
                    <m:r>
                      <m:t xml:space="preserve">→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8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mantic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eric constants       with      ,                     are assigned standard natural numbers semantics (Presburger arithmet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nstant event symbol in      is assigned a distinct event in an event set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ssigned the occurrence relation, i.e. 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xioms (monotonicit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rules are derived from first-order 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formed formulas have no free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589200" y="1996920"/>
                <a:ext cx="250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2057400"/>
                <a:ext cx="2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924440" y="2028960"/>
                <a:ext cx="1131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348080" y="2635200"/>
                <a:ext cx="2494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00200" y="289548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19320" y="3200400"/>
                <a:ext cx="250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16880" y="3200400"/>
                <a:ext cx="11476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6477120" cy="8967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02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vent Types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ase specification, we can add additional semantic to       dividing events in three possibl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events are caused by user interaction or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button pres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d Stop events are associated wit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ctivities in the system that last a non null length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n action        ,           is the start event and          the stop ev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Events represent changes to the state of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state predicate        ,              and                 represent the transition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ing on initial conditions, either                            or                           must h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ransition events are still numbered based on occurrences! If                  , then in                             ,       is the first time the state predicate becomes fal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018200" y="200196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57720" y="2940120"/>
                <a:ext cx="14000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BUTTON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743200" y="3809880"/>
                <a:ext cx="271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182760" y="3780000"/>
                <a:ext cx="459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796000" y="3794040"/>
                <a:ext cx="458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581280" y="4419720"/>
                <a:ext cx="20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43440" y="4422600"/>
                <a:ext cx="817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227560" y="4419720"/>
                <a:ext cx="795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000760" y="498492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792840" y="499284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613640" y="551196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397240" y="5772240"/>
                <a:ext cx="15080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1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145040" y="5811840"/>
                <a:ext cx="1476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vent Types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axioms to cover event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/stop axiom (for each action      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ition axioms (for each state predicate  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579920" y="2333520"/>
                <a:ext cx="271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257800" cy="478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486400" y="3200400"/>
                <a:ext cx="20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5334120" cy="228456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2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syntactic sugar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is a variable and    is a numeric constant, then           is s.s. for    add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define an additional operator              associated with partia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currence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such that                                   (i.e., it provides the time of the ith occurrency of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rewrite the periodic task specificatio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327320" y="2077920"/>
                <a:ext cx="20772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286080" y="2057400"/>
                <a:ext cx="18720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324480" y="2057400"/>
                <a:ext cx="4366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005440" y="2622600"/>
                <a:ext cx="747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36920" y="2879640"/>
                <a:ext cx="12938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715000" y="2895480"/>
                <a:ext cx="2222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386320" y="322416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41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981080" y="4246560"/>
                <a:ext cx="30006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92240" y="3789360"/>
                <a:ext cx="32083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syntactic sugar: state predicat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ime terms          , the state predicate           (      is true in time interval         ) is s.s.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boundary conditions are possible (definitions are trivi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  :              occurs at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x  :              occurs before or at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 :              occurs before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]  :              occurs at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)  :              occurs after or at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&gt; :              occurs after 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971800" y="2057400"/>
                <a:ext cx="4366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586480" y="1996920"/>
                <a:ext cx="664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416640" y="2028960"/>
                <a:ext cx="208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81080" y="2286000"/>
                <a:ext cx="51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5105160" cy="3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05120" y="3581280"/>
                <a:ext cx="809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905120" y="3886200"/>
                <a:ext cx="80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905120" y="4191120"/>
                <a:ext cx="80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14480" y="4495680"/>
                <a:ext cx="789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914480" y="4800600"/>
                <a:ext cx="78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05120" y="5105520"/>
                <a:ext cx="788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5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7:46:28Z</dcterms:created>
  <dc:creator>Enzhou Wang</dc:creator>
  <dc:description/>
  <dc:language>en-US</dc:language>
  <cp:lastModifiedBy>Rodolfo Pellizzoni</cp:lastModifiedBy>
  <dcterms:modified xsi:type="dcterms:W3CDTF">2006-07-24T20:02:14Z</dcterms:modified>
  <cp:revision>130</cp:revision>
  <dc:subject/>
  <dc:title>An Extensible Choices System Interface </dc:title>
</cp:coreProperties>
</file>